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5109-E21A-4F21-8C2B-1AF3D79D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215-731F-4D5B-AF8C-E504054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25E-1B67-4D43-844B-1AC559EC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615-C8AB-4874-9B9A-B059C63D1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038-C42E-4B30-B5A7-C7E822F5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D8D-F97E-4094-A7ED-2D982CD1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0A3-CDF1-46C9-8C94-880AFB4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9C3-0A5F-4D10-ACE9-CDB007A2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963-F22C-4283-AD9F-A9374F1D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9009-5FD9-4D43-A2BA-0192674A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E8C-546B-4301-A8C6-B0D3A043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687-9294-4DA8-9B61-BDD0901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475D-396D-4D5C-9F9B-1B5EBEDC1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2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lessing and hon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glory and p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yours for ever and 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5:51Z</dcterms:created>
  <dc:creator>Anon Anon</dc:creator>
  <dc:description/>
  <dc:language>en-US</dc:language>
  <cp:lastModifiedBy>Anon Anon</cp:lastModifiedBy>
  <dcterms:modified xsi:type="dcterms:W3CDTF">2005-08-09T05:24:45Z</dcterms:modified>
  <cp:revision>11</cp:revision>
  <dc:subject/>
  <dc:title>PowerPoint Presentation</dc:title>
</cp:coreProperties>
</file>